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946-7CB4-4F08-9E0E-1C4F911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69C-04DD-4D8D-B21D-2AE2379F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2C7-D1CE-4E4E-BBB5-AA83C29F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AA3-39B3-4167-907D-9C66FFF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91E9-6BF8-4450-A160-BFDB5E8F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034-D7BA-4076-BBA1-03E72A1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8919-3B86-4C54-B823-2DEDECE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3AF2-B182-47BB-A831-409E242E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E1B4-7632-4FCA-8E24-CD18570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8946-9B3B-40C1-A3B9-3649E50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B38C-F608-4C4B-A064-A0E2842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BDA-98DC-40EB-ACA2-988B681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699-4614-419B-8DEB-B844F02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04E-A47D-46E0-A15D-FA4203A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386B-1CDC-4A17-B562-FE8D92A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B9C4-F384-47FE-AF41-62C26850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15A1-DB04-496E-ABBC-477A2267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55E-E5B4-48E8-BBC6-9AE529EC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E62-0FF3-41C1-ADC5-F16D46BD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08F-350F-4F50-8ADC-0735773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FBA-33BF-49F0-8A2B-4695303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628-E187-410F-A62A-96BC34D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4F7-6172-4401-957F-475DEA2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08B-1C98-49B4-B897-FCE715B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40BD-278E-4312-930A-F6B3454F0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552-2D9F-4C9A-8C63-B0A7B3DD1B3C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apted from ‘How to pass exams’ in Burns &amp; Sinfield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ssential Study Skills: the complete guide to success @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Revision and exam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rt &amp; long term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ong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UGE! Infinite number of mem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sistent – memories last &amp; l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put is relatively slow – it takes time to build mem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ccess – depends on input – how you put it in is how you get it out …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member… Primary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you remember t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:\Program Files\Microsoft Office\Clipart\standard\stddir1\BD07210_.WMF"/>
          <p:cNvPicPr/>
          <p:nvPr/>
        </p:nvPicPr>
        <p:blipFill>
          <a:blip r:embed="rId1"/>
          <a:stretch/>
        </p:blipFill>
        <p:spPr>
          <a:xfrm>
            <a:off x="1066680" y="2792520"/>
            <a:ext cx="71629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61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Comic Sans MS"/>
              </a:rPr>
              <a:t>What type of memory do you hav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u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reduce a topic to a key word pattern with colour &amp; carto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r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reduce the key words onto your own tape and learn (singing along if you must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eel”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ased memory – make learning maps, move around as you recite or act out key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7" descr="C:\WINDOWS\Application Data\Microsoft\Media Catalog\pcs_popular_174.wmf"/>
          <p:cNvPicPr/>
          <p:nvPr/>
        </p:nvPicPr>
        <p:blipFill>
          <a:blip r:embed="rId1"/>
          <a:stretch/>
        </p:blipFill>
        <p:spPr>
          <a:xfrm>
            <a:off x="5145120" y="2052720"/>
            <a:ext cx="3809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Strange but tru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se Buzan’s revision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ter a study session, reduce your notes to key words (10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y later write out those key words from memory, refer to the actual notes and fill in the gaps (2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week later, write the notes out from memory &amp; plug gaps again (2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onth later repeat this (2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x months later repeat again (2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it or los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So- how to pass exams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19320" y="3048120"/>
            <a:ext cx="2666880" cy="2057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QP4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943600" y="1752480"/>
            <a:ext cx="2209680" cy="48006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rv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di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par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ctic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Which mea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vey: past papers – know exam format, length, question style, topics –c.f. module aims &amp; 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: what do I need to so and learn to pass this course (well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ict: topics that I will answer questions up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: revision strategy &amp; materials – make sure you see it, hear it, say it &amp;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e: subject pattern notes; cue cards; mnemonics; revision games &amp; tap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se: timed brainstorming &amp; timed 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ips: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Test yourself and your friends; think of it like a driving test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…think smart – be posi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Fear is normal – it does not mean give up and go hom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can handl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prep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looking forward to my ex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responsible for my learning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C:\WINDOWS\Application Data\Microsoft\Media Catalog\pcs_popular_186.wmf"/>
          <p:cNvPicPr/>
          <p:nvPr/>
        </p:nvPicPr>
        <p:blipFill>
          <a:blip r:embed="rId1"/>
          <a:stretch/>
        </p:blipFill>
        <p:spPr>
          <a:xfrm>
            <a:off x="5145120" y="2290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762120" y="2666880"/>
            <a:ext cx="7467480" cy="27432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Good Luck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What are exam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6095880" y="914400"/>
            <a:ext cx="2590920" cy="25146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form of tor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velop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ff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048120" y="3429000"/>
            <a:ext cx="2971800" cy="2590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…where 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the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tween that les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304920" y="2057400"/>
            <a:ext cx="3047760" cy="2819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–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st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 y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mo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019920" y="4038480"/>
            <a:ext cx="3124080" cy="2514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piece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rsework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those boo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were sup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a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xam myths …                  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ams are just for people with good memories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improve you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apply what you have lear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past papers to prepare – and practice timing yourself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C:\WINDOWS\Application Data\Microsoft\Media Catalog\pcs_popular_223.wmf"/>
          <p:cNvPicPr/>
          <p:nvPr/>
        </p:nvPicPr>
        <p:blipFill>
          <a:blip r:embed="rId1"/>
          <a:stretch/>
        </p:blipFill>
        <p:spPr>
          <a:xfrm>
            <a:off x="2409840" y="2017800"/>
            <a:ext cx="135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xam myths…                   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5" descr="C:\WINDOWS\Application Data\Microsoft\Media Catalog\pcs_popular_181.wmf"/>
          <p:cNvPicPr/>
          <p:nvPr/>
        </p:nvPicPr>
        <p:blipFill>
          <a:blip r:embed="rId1"/>
          <a:stretch/>
        </p:blipFill>
        <p:spPr>
          <a:xfrm>
            <a:off x="1219320" y="1981080"/>
            <a:ext cx="29718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ams are designed to catch you out! They will just make me feel like a foo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cause exams are trying to get you to apply your knowledge in new situations, it can feel like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Not give up! There are lots of things to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P: look at past exam pa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 …                              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3926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’s all right if you can write really fa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reality, examiners are looking for quality, not qua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rs don’t want you to write all the things you know about a topic – they want you to answer the question by applying your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C:\WINDOWS\Application Data\Microsoft\Media Catalog\pcs_popular_197.wmf"/>
          <p:cNvPicPr/>
          <p:nvPr/>
        </p:nvPicPr>
        <p:blipFill>
          <a:blip r:embed="rId1"/>
          <a:stretch/>
        </p:blipFill>
        <p:spPr>
          <a:xfrm>
            <a:off x="5396040" y="1828800"/>
            <a:ext cx="3287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4                    is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ow can you learn twelve weeks work in two week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trary to popular belief, revision doesn’t start just before exams – that’s when people can panic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rn by thinking about, using and remembering what we learned over a whole course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C:\WINDOWS\Application Data\Microsoft\Media Catalog\pcs_popular_200.wmf"/>
          <p:cNvPicPr/>
          <p:nvPr/>
        </p:nvPicPr>
        <p:blipFill>
          <a:blip r:embed="rId1"/>
          <a:stretch/>
        </p:blipFill>
        <p:spPr>
          <a:xfrm>
            <a:off x="1143000" y="1981080"/>
            <a:ext cx="293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Comic Sans MS"/>
              </a:rPr>
              <a:t>And finally, myth …                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f I fail then the whole thing will have been a waste of time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body likes to fail an exam, and nothing here can take the sting away…but you can learn from mistakes you make in the exam, correct them and pass next tim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C:\WINDOWS\Application Data\Microsoft\Media Catalog\pcs_popular_182.wmf"/>
          <p:cNvPicPr/>
          <p:nvPr/>
        </p:nvPicPr>
        <p:blipFill>
          <a:blip r:embed="rId1"/>
          <a:stretch/>
        </p:blipFill>
        <p:spPr>
          <a:xfrm>
            <a:off x="6067440" y="2017800"/>
            <a:ext cx="196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o you have a goo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ually – people think, NO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– there is a difference between short- and long- term memory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tudents need to build long term memo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rt &amp; long term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hor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MALL: 5-9 pieces of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rief stay (little persist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mediate input – it goes in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mediate access – it’s there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T useful for studen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21:13:12Z</dcterms:created>
  <dc:creator>HOLLEY</dc:creator>
  <dc:description/>
  <dc:language>en-US</dc:language>
  <cp:lastModifiedBy>Bakri</cp:lastModifiedBy>
  <dcterms:modified xsi:type="dcterms:W3CDTF">2015-11-19T04:26:27Z</dcterms:modified>
  <cp:revision>20</cp:revision>
  <dc:subject/>
  <dc:title>Revision and exam technique</dc:title>
</cp:coreProperties>
</file>